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D5A-8DC0-4FB3-B3EB-84C63394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ABF-83B3-424E-B7AD-A5A6E5F1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52E-F139-4615-9A64-FC8868F6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BE0-38BD-425B-9C28-72621E77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F39-DFD8-4A1A-BFB6-CC34E0B2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17B-8A7A-478C-A597-751DFD49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3A6-8DFF-4BB4-93E1-3B0053E6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A7D-C34D-4F4A-BFC2-82A10FC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539-799F-420D-8D10-790EF977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C7A-A499-45E8-944A-2C7110A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A8A-3D75-4987-97BD-FCA06C3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162-53BF-4118-834F-DF268E2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4CCA-CFE3-442B-A7CE-A308C9A34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iketrails.com/88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438280" y="-1276200"/>
            <a:ext cx="13984200" cy="8134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Jeremy Edmonson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 the New 25-M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ain Bike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erans’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838080"/>
            <a:ext cx="6143760" cy="10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15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4000" spc="-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943600"/>
            <a:ext cx="914400" cy="9144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4343400"/>
            <a:ext cx="914400" cy="27432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52400"/>
            <a:ext cx="8001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de Along 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sun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25:02Z</dcterms:created>
  <dc:creator>759670</dc:creator>
  <dc:description/>
  <dc:language>en-US</dc:language>
  <cp:lastModifiedBy>759670</cp:lastModifiedBy>
  <dcterms:modified xsi:type="dcterms:W3CDTF">2009-03-31T15:42:55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